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AADEE7-2E52-4F8A-9C66-D7DF7ABC21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9CE168-47EA-4A06-8075-A6E0ED7D0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C15449-126A-4A44-9659-4A41888233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78395B-B5FF-43BC-A6AB-637939ADD8D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0626B0-9D27-421B-84B5-19AA6B913F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D1F9B9-2716-4D94-9109-8EB02CB0CC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035060-C3FE-4747-B586-0D5C93F6EA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7FB8FD-9224-42A3-B4FD-0FBA1088C7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6CD232-A3C2-43E4-A477-F4D5762AC4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83CA56-4BA5-4909-8B8E-155707CFF1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660F20-E185-45B1-8A4C-F9E5B95BF0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320C46-F9BD-4309-B892-B99BFC68E5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336DC5-9DB1-428A-8637-0459A7280C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CF4EBB-DDCC-407C-8E00-EEFA5E6182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21F992-7302-4F6A-A277-DF45BF9A70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58B736-0632-4384-8982-2DAE8A1219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137CAF-9819-4559-BDCE-FA2BA46561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86628C-75F4-4B0E-ABBD-674E6A78C5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FF77DB-1AED-48A5-9177-0D41516354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370748-A879-430E-89CA-D49178143B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5BEF9F-3DA3-4C42-BE07-D404FD8EA8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255AD6-85CB-4622-9698-7057EF8949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B9AF37-F276-44C7-86D4-4B38A5F71A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8A416F-A66C-465F-9159-E394BA190F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D4CF00-9894-4E1C-884F-144A10FB3A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D5882E-AD8F-42BA-95E2-AFA3D6EE94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0D94F9-051F-43A1-8B83-F9B7E7FB6C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995480" y="64296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C736A3-C29C-4747-954A-6294F5DA9F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AF782D-43FC-49E2-9AB6-E6B4CB24F3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AEA438-FABB-44FE-B2FE-A3C1F2FB6A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E42576-9AF5-4E26-8548-F39C71F530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E4DC52-97CA-4FA8-8339-B1E89E5CFE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651EBD-87B4-48B8-83DE-F440467F5E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62080" y="68904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104A26-B22D-4292-B7E3-D12E825C97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FAE66E-24AC-4B64-BB34-F2B6C58126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DBEBE5-3085-4E16-97A0-A31EC7673E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A59491-A077-44BA-ADAE-B13C066B4A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0AF64E-D293-4F83-89D7-6833C32059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178-C5A4-47AE-83BE-2939B34F574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938A-AD58-453B-97BC-65559DE93B2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A9E2-54E6-49A2-B87A-1A922C1AB8E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52F-CC51-4DDB-9F5A-0B582A30BF6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3C32-1BAB-41D2-9234-4E511C20C56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3BF3-4214-476A-993A-96850DC5606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6515-FBDA-421B-BD25-A7E3B174249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F55E-C482-4E9E-8886-4EAE1372EC3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943E-079A-4F5C-9E5C-A10A2A7E447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1E0E-B436-4025-909E-3A6052E86FF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EDB-7905-45E1-B872-9D93A60943A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DCB-5477-42F5-A844-9C621F1FE46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DF8-B4A3-4E6D-8176-7ADBB6195A9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77A-6924-40E8-B678-D7217FBBEF5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1AD3-C668-4F0C-BCBE-3E1EB71F1D6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C648-DC40-4DCC-B3F2-C6AD198DD83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Estimating with PROBE II - </a:t>
            </a:r>
            <a:fld id="{C4421A4B-907C-4BDC-993D-F7C262100D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41480" y="1508040"/>
            <a:ext cx="63421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Estimating with PROBE I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duce the size ranges, sort the data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rted LOC per item data: 9.333, 10.5, 12, 13, 25.4, 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 these data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smallest item as very small: VS = 9.33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largest item as very large: VL = 3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middle item as medium: M = 12 or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large and small ranges, pick the mid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 and VS and M and VL: 10.9, and 22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se may be useful ranges, they are probably not st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, additional data points will likely result in substantial size-range adjust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judging size, our intuition is generally based on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, we think of something as of average size if most such items are about that same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consider something to be very large if it is larger than almost all items in its categ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tems are distributed this way, it is called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normally distributed data, the ranges should remain reasonably stable with the addition of new data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70120" y="850680"/>
            <a:ext cx="799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1"/>
          <a:srcRect l="0" t="0" r="0" b="22687"/>
          <a:stretch/>
        </p:blipFill>
        <p:spPr>
          <a:xfrm>
            <a:off x="1046160" y="1579680"/>
            <a:ext cx="6973920" cy="40352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4"/>
          <p:cNvSpPr/>
          <p:nvPr/>
        </p:nvSpPr>
        <p:spPr>
          <a:xfrm>
            <a:off x="3264480" y="5602320"/>
            <a:ext cx="232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rm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ve Size Ranges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large volume of data, you could calculate the mean and standard deviation of tha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size r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would be the mean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would be mean plus on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would be mean minus on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large would be mean plus two standard dev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4000" indent="-16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mall would be mean minus two standard dev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ethod would provide suitably intuitive size ranges if the data were normally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stribution of Siz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data are not normally distribu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mal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w larg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egative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ize data, the mean minus one or two standard deviations often gives negative size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on strategy for dealing with such distributions is to treat it as a log-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Object 2"/>
          <p:cNvGraphicFramePr/>
          <p:nvPr/>
        </p:nvGraphicFramePr>
        <p:xfrm>
          <a:off x="934920" y="2068560"/>
          <a:ext cx="735192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2068560"/>
                    <a:ext cx="7351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028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g-Normal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g-Normal Distribu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normalize size data, do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natural logarithm of th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mean and standard deviation of the lo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average, large, very large, small, and very small values for the lo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inverse log of the ranges to obtain the range size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procedure will generally produce useful size r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90280" y="917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27000" y="1671480"/>
            <a:ext cx="743112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thematically precise way to determine the proxy size ranges is described in the text (pages 78-7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mple way to determine these size ranges will work when you have lots of data.  Otherwise, it can cause under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stimating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37"/>
          <p:cNvGraphicFramePr/>
          <p:nvPr/>
        </p:nvGraphicFramePr>
        <p:xfrm>
          <a:off x="1025640" y="4118040"/>
          <a:ext cx="7520040" cy="119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4118040"/>
                    <a:ext cx="75200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Limited Data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after using PSP for many projects, you will have 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stimates with limited data when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a new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new tools or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your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69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unfamiliar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estimates made with data are more accurate th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esses, use data whenever you c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 carefully since improper use can lead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Limited Data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70640" cy="77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quality of your data, select one of the four PROBE estimating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184400" y="2556000"/>
          <a:ext cx="7246800" cy="1863720"/>
        </p:xfrm>
        <a:graphic>
          <a:graphicData uri="http://schemas.openxmlformats.org/drawingml/2006/table">
            <a:tbl>
              <a:tblPr/>
              <a:tblGrid>
                <a:gridCol w="1299960"/>
                <a:gridCol w="5946840"/>
              </a:tblGrid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x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dded and modifie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veraging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ing jud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 Box 57"/>
          <p:cNvSpPr/>
          <p:nvPr/>
        </p:nvSpPr>
        <p:spPr>
          <a:xfrm>
            <a:off x="1133640" y="4654440"/>
            <a:ext cx="732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regression method A or B, you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asonable amount of historic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hat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abl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mete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ing prox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 limite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accu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61840" y="738000"/>
            <a:ext cx="7778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thod A (Regression): Estimated Proxy S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98560" y="1557000"/>
            <a:ext cx="809136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A uses the relationship between estimated proxy size (E) and a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ed and modified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 0.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on of at least three exercises with PSP1 or hig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76240" y="768240"/>
            <a:ext cx="79408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 B (Regression):  Plan Added and Modified Siz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79120" y="1577520"/>
            <a:ext cx="8056440" cy="4318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B uses the relationship between plan added and modified size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added and modified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.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on of at least three exercises with PSP0.1 or hig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C: Avera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85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C uses a ratio to adjust size or time based on historical aver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ing method is easy to use and requires only one data poi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s assume that there is no fixed overh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ing method is described in the PROBE script in table 6.6 on page 9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75880" y="826920"/>
            <a:ext cx="789804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D: Engineering Jud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80560" y="1574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ethod D when you don’t have historical data.  Use judgment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the added and modified size from estimated par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ethod D when you cannot use methods A, B, or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Accura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80560" y="1584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is a skill that must be develop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helps to build planning skill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simple plans are subject to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eseen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com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design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0760" indent="-1609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plain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strategy is to plan in d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recognized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estimates based on similar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judgments on the r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624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0288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bine multiple estimates made by a single develo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stimates for the separate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one linear regression cal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one set of prediction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developers can combine independently-made estimates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eparate linear regression proj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he projected sizes and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the squares of the individual ranges and taking the square root to get the prediction interv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870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Error: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7640" y="16365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estimating in parts, the total error will be less than the sum of the part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rors tend to balance o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ssumes no common b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1000-hour job with estimating accuracy of ± 50%, the estimate range is from 500 to 15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estimate is independently made in 25 parts, each with 50% error,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would be 1000 hours, as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range would be from 900 to 1100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ing Individual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9856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bine independently-mad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the estimated va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variances (squares) of the err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25 estimates for a 1000-hour j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stimate averages 4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andard deviation is 50%, or 2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for each estimate is 4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s add up to 10,0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bined standard deviation is the square root of the sum of the variances, or 1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716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timate range is 900 to 1100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07560" y="1663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74440" y="834840"/>
            <a:ext cx="8064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4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ediction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548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provides a likely range around the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70% prediction interval gives the range within which the actual size will likely fall 70% of the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is not a forecast, only an expec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pplies only if the estimate behaves like the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culated from the same data used to calculate the regression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6120" indent="-137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Exercise 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98560" y="16920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148 + 27.4 = 175.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2440" indent="-130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148 – 27.4 = 120.6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7912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ultiple Prox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140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ize/hour data for several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each as bef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total estimates and prediction intervals as just descri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regression 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correlation between development time and each prox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xies do not have separate size/hour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regression is covered in exercise hints for the final PSP exerc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5956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PROBE method can provide accurate estimates, improper use of data can lead to serious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treme point can give a high correlation even when the remaining data are poor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extreme points can lead to erroneous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, even with a high 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with Groupe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2217600" y="1960560"/>
            <a:ext cx="4686480" cy="3257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9"/>
          <p:cNvSpPr/>
          <p:nvPr/>
        </p:nvSpPr>
        <p:spPr>
          <a:xfrm>
            <a:off x="68760" y="395928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0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rrelation with an Extreme Poi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2214720" y="1954080"/>
            <a:ext cx="4695840" cy="32673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8"/>
          <p:cNvSpPr/>
          <p:nvPr/>
        </p:nvSpPr>
        <p:spPr>
          <a:xfrm>
            <a:off x="149760" y="550224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0.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on Mislead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026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ly one point moved to an extreme value, the correlation for the same data increased from 0.26 to 0.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th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chang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.23 to -17,76 for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2 to 5.08 for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n average productivity of 3.02 and 3.31 hours per page, both of thes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misl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e extreme point, you probably should not use reg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5716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72640" y="1569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provides a structured way to make size and development tim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uses your personal developmen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provides a statistically sound range within which actual program size and development time are likely to f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tatistically sound estimating method like PROBE, you can calculate the likely estimating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ediction Interval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1"/>
          <a:stretch/>
        </p:blipFill>
        <p:spPr>
          <a:xfrm>
            <a:off x="992160" y="1803240"/>
            <a:ext cx="8151840" cy="4815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8"/>
          <p:cNvSpPr/>
          <p:nvPr/>
        </p:nvSpPr>
        <p:spPr>
          <a:xfrm>
            <a:off x="3997080" y="152712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 flipV="1">
            <a:off x="2871720" y="3286080"/>
            <a:ext cx="4557960" cy="175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ange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03240" y="159516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ge defines the likely error around the projection within which the actual value is likely to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scattered data will have a wider range than closely bunch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6"/>
          <p:cNvGraphicFramePr/>
          <p:nvPr/>
        </p:nvGraphicFramePr>
        <p:xfrm>
          <a:off x="212760" y="3271680"/>
          <a:ext cx="1000908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3271680"/>
                    <a:ext cx="100090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"/>
          <p:cNvSpPr/>
          <p:nvPr/>
        </p:nvSpPr>
        <p:spPr>
          <a:xfrm>
            <a:off x="1055520" y="4842000"/>
            <a:ext cx="717408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 - number of data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the standard deviation around the regress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(p, df) - the t distribution value for probability p (70%) and df (n-2) degrees of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- the data: k - the estimate, i - a data point, and avg - average of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andard Deviation Calc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measures the variability of the data around the regression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scattered data will have a higher standard deviation  than closely bunch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Object 7"/>
          <p:cNvGraphicFramePr/>
          <p:nvPr/>
        </p:nvGraphicFramePr>
        <p:xfrm>
          <a:off x="274680" y="3490920"/>
          <a:ext cx="1057896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3490920"/>
                    <a:ext cx="10578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0"/>
          <p:cNvSpPr/>
          <p:nvPr/>
        </p:nvSpPr>
        <p:spPr>
          <a:xfrm>
            <a:off x="1130400" y="4749840"/>
            <a:ext cx="70689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deviatio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quare root of th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63280" y="874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Prediction Inter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93880" y="1550880"/>
            <a:ext cx="78278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prediction range for size and time for the example in lecture 3 (slides 42 and 43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upper (UPI) and lower (LPI) prediction intervals 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P + Range = 538 + 235 = 773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P - Range (or 0) = 538 - 235 = 303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UPI and LPI prediction intervals  fo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I = Time + Range = 1186 +431 = 1617 m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PI = Time - Range (or 0) = 1186 - 431 = 755 m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8092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80560" y="1630080"/>
            <a:ext cx="755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n estimat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se planned parts to parts that you have alread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size of the previously-built parts to estimat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this, you need size ranges for the types of parts that you typically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oduct type, you also need size ranges to help you to judge the sizes of the new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termine the size ranges, start with the par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that you have the following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A, three items (or methods), 39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B, five items, 127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C, two items, 64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, three items, 28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E, one item, 12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F, two items, 21 total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 per item is 13, 25.4, 32, 9.333, 12, 10.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is define size ranges that approximate our intuitive feel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18Z</dcterms:modified>
  <cp:revision>160</cp:revision>
  <dc:subject/>
  <dc:title>No Slide Title</dc:title>
</cp:coreProperties>
</file>